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4BF-EE5E-4174-9C6A-02213D76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F3B-51BE-4D95-8511-EB6B879C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3D9-9320-4DAF-884F-692FA405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07B-48F1-46A5-A13D-D59389EA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8F5-79EA-4BE7-AFEB-E893731A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0BE-7AA1-4749-AE43-A493C6A2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10B-98BD-4B95-97E6-400271C5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223-8D33-40ED-8A6C-8EEB70F6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91D-3567-4707-8DD3-82750A2B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37D-3344-43A4-AA26-21D0A149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371-713E-419A-A876-69A00137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AB1-C726-4ABE-82C0-8A7B577D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4E4E-43A0-48AB-9517-039DD53D9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amlegends.com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m Leg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Cody R. Critch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 some my prediction was right for some of my tester but for others it wa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 it really doesn’t matter what hand you use its what ever is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d people play better with their left or their right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predict that they will play better with their left hand. Because they will not click on some thing with their wr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ter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 ne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uter( with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t player to 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jamlegends.co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n have them read dir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xt tell then to click play if they are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cip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nter Hewit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ogan J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ash Far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ustin My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ed Dierk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ylee 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inley R. Far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isty Ri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ng And Difficult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ame of the song that I chose is called; On The R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difficulty is set on normal 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ssible cause of Err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l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dependent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ing On The Ro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Normal 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 on easy and just hitting the but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04:45Z</dcterms:created>
  <dc:creator>USD376</dc:creator>
  <dc:description/>
  <dc:language>en-US</dc:language>
  <cp:lastModifiedBy>USD376</cp:lastModifiedBy>
  <dcterms:modified xsi:type="dcterms:W3CDTF">2010-03-01T20:14:03Z</dcterms:modified>
  <cp:revision>7</cp:revision>
  <dc:subject/>
  <dc:title>  Jam Legends</dc:title>
</cp:coreProperties>
</file>